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85D4-D343-4358-8AD4-F2144F99D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1B8B-2178-4463-9880-C568114E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FB3-A0F0-447D-B4AA-BB823CD0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0CC-4AB3-4178-8A21-328EC584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661-CF61-4742-9E11-63ADC907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00E-15C1-4513-BEB6-9B12F8F7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B89-0BB3-44DF-91CD-EA661EF1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EF1-58FE-4C3B-B0F8-68E4F2F1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E6F-93C7-419D-A0CC-6F122791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CA9-868B-4F20-AA28-99E0A7C7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31F-2143-4205-990D-3CEAD46E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599-BB66-4628-BB2C-542DE281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16D-A089-4BCA-BFB5-9CBFF339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45A-E5E8-4C1E-90D1-2682C9B7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1A30-A0D9-4487-94AC-223932BF7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Skyline of Manama, Bahrain photo"/>
          <p:cNvPicPr/>
          <p:nvPr/>
        </p:nvPicPr>
        <p:blipFill>
          <a:blip r:embed="rId2"/>
          <a:stretch/>
        </p:blipFill>
        <p:spPr>
          <a:xfrm>
            <a:off x="6089760" y="4340160"/>
            <a:ext cx="3060720" cy="2524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Map of Bahrain"/>
          <p:cNvPicPr/>
          <p:nvPr/>
        </p:nvPicPr>
        <p:blipFill>
          <a:blip r:embed="rId3"/>
          <a:stretch/>
        </p:blipFill>
        <p:spPr>
          <a:xfrm>
            <a:off x="-6480" y="-6480"/>
            <a:ext cx="3060720" cy="351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Map of Asia"/>
          <p:cNvPicPr/>
          <p:nvPr/>
        </p:nvPicPr>
        <p:blipFill>
          <a:blip r:embed="rId4"/>
          <a:stretch/>
        </p:blipFill>
        <p:spPr>
          <a:xfrm>
            <a:off x="4260960" y="-6480"/>
            <a:ext cx="2682720" cy="281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http://t1.gstatic.com/images?q=tbn:ANd9GcSq18CEVwquig9eysQNnEhKnR5G0q3FeGBoLS_56mVJsRdDtQPn8g"/>
          <p:cNvPicPr/>
          <p:nvPr/>
        </p:nvPicPr>
        <p:blipFill>
          <a:blip r:embed="rId5"/>
          <a:stretch/>
        </p:blipFill>
        <p:spPr>
          <a:xfrm>
            <a:off x="6778800" y="-6480"/>
            <a:ext cx="2371680" cy="285300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" descr=""/>
          <p:cNvPicPr/>
          <p:nvPr/>
        </p:nvPicPr>
        <p:blipFill>
          <a:blip r:embed="rId6"/>
          <a:stretch/>
        </p:blipFill>
        <p:spPr>
          <a:xfrm>
            <a:off x="2614680" y="-146160"/>
            <a:ext cx="2328840" cy="156708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4" descr=""/>
          <p:cNvPicPr/>
          <p:nvPr/>
        </p:nvPicPr>
        <p:blipFill>
          <a:blip r:embed="rId7"/>
          <a:stretch/>
        </p:blipFill>
        <p:spPr>
          <a:xfrm>
            <a:off x="2084400" y="2955960"/>
            <a:ext cx="4316400" cy="3610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0" y="6488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ag of Bahr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0" y="33526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n made is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553080" y="3809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hrain 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662940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ity of Man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Flag of Bahrain"/>
          <p:cNvPicPr/>
          <p:nvPr/>
        </p:nvPicPr>
        <p:blipFill>
          <a:blip r:embed="rId8"/>
          <a:stretch/>
        </p:blipFill>
        <p:spPr>
          <a:xfrm>
            <a:off x="-225360" y="4937040"/>
            <a:ext cx="3633840" cy="209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Durrat Al Bahrain, Bahrain photo"/>
          <p:cNvPicPr/>
          <p:nvPr/>
        </p:nvPicPr>
        <p:blipFill>
          <a:blip r:embed="rId9"/>
          <a:stretch/>
        </p:blipFill>
        <p:spPr>
          <a:xfrm>
            <a:off x="-6480" y="3578400"/>
            <a:ext cx="1841760" cy="139032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13" descr=""/>
          <p:cNvPicPr/>
          <p:nvPr/>
        </p:nvPicPr>
        <p:blipFill>
          <a:blip r:embed="rId10"/>
          <a:stretch/>
        </p:blipFill>
        <p:spPr>
          <a:xfrm>
            <a:off x="2298600" y="5772240"/>
            <a:ext cx="22924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15:02:11Z</dcterms:modified>
  <cp:revision>22</cp:revision>
  <dc:subject/>
  <dc:title>Slide 1</dc:title>
</cp:coreProperties>
</file>